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99CC-C85D-4E6C-8482-D75E6415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5276-984C-485C-9260-7D3ED751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4884-1951-4299-8526-D649DAF4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DC21-02AD-4081-96F2-BC0F5DAB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D4AB-DA58-4BA0-ABE8-005E4D26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87B3-80B0-43E5-AF33-33A2F77F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C8F9-CF60-4444-943E-BE0DF9A8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C05E-3049-477F-86D4-F5706C94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FD6F-E613-481F-94D1-D564942D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EC3A-FC38-4CA1-A4FC-51E4B80A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FC46-0DDA-4254-9D74-30F1DF5A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7FA2-CFAC-4417-A8A8-6FF48B95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7231-E7B0-40C7-B059-FB15E522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A954-1385-4FD4-920A-726C5B95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BFA0-BB25-4179-89C0-E6400D15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526A-CCE8-4650-AB8E-90ACC221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EEC5-644A-4129-B134-F3B33155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B575-3854-4980-B6ED-07E255E8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BCE6-6C1C-4858-8543-127719ED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FF64-FF77-4463-B5DA-AFA8CB37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86ED-E78F-4B27-A9FE-E3DB85B7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3A92-D3DD-4532-8467-71268E3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13F4-D21A-4850-A840-7E57CB97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FCC8-48A5-42B4-B61F-6FE668FB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A849-7DFB-47DD-B71C-350F3F6CCB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B18F-093F-4054-9892-35751F8CFD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crets of Message Box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Message Butt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6765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t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16765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1337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1337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5909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, 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25909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OK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0481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rt, Retry, Ign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5053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, No, 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9625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,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4197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ry, 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30481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AbortRetryIgn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5053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YesNo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9625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Yes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4197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Retry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6120" y="5486400"/>
            <a:ext cx="81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only buttons that we can create with visual basic scrip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eating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914040" y="1600200"/>
            <a:ext cx="60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asking a person if they like chocolate or no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3120" y="2170080"/>
            <a:ext cx="671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Chocola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m ChocoloateAnsw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ocolateAnswer= MsgBox("Do you like chocolate?" , vbYes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hocolateAnswer = vbYes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sgBox("I like chocolate too!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sgBox("Vanilla is a good choice.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6600" y="4952880"/>
            <a:ext cx="841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he  name of the subroutine is Chocolate.  Dim tells the comput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e want to create a variable.  In this case, it is ChocolateAnswer. Notic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e use a message box instead of an input box because we are us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b buttons Yes and No. If ChocolateAnswer = Yes- then I like chocolate to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no we use the Else statement, Vanilla is a good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t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5238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ther example : Quit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5680" y="2017800"/>
            <a:ext cx="624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QuitOK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m res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 = Msgbox("Are you sure you want to quit?", vbYes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result =vbYes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howWindow.View.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howWindow.View.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2160" y="5141880"/>
            <a:ext cx="84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he name of the program is QuitOk.  The variable is result.  The buttons 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yes and no. If yes, the computer will exit the program.  If no, it will go to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ext sl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45:28Z</dcterms:created>
  <dc:creator>jnatale</dc:creator>
  <dc:description/>
  <dc:language>en-US</dc:language>
  <cp:lastModifiedBy>jnatale</cp:lastModifiedBy>
  <dcterms:modified xsi:type="dcterms:W3CDTF">2009-02-19T15:23:06Z</dcterms:modified>
  <cp:revision>4</cp:revision>
  <dc:subject/>
  <dc:title>Secrets of Message Boxes</dc:title>
</cp:coreProperties>
</file>